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F55-2C91-4D61-B16D-6F14FB90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43A-7D6B-40A8-99F4-75FAB96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BDC-C8E0-486A-9FBE-33F217F8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DDA-49A3-4588-B543-C3E7C515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8BC-B9D8-40D9-9890-BB608D9B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031-220B-465B-BF8A-636210ED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07A-5655-49C8-8554-DBD57C64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6C8-981C-4E69-A1AE-F46AB699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CE9-B2BE-4463-B761-7128A0D7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B7C-9B16-4C51-AE47-26C3DD1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0BF-8FBF-41BA-995D-E46D6A5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AD8-BE09-4FE6-8BC2-F3F11B8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311C-1544-4F3E-B118-6EBA4746A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apyrus"/>
              </a:rPr>
              <a:t>Beowul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manuscript"/>
          <p:cNvPicPr/>
          <p:nvPr/>
        </p:nvPicPr>
        <p:blipFill>
          <a:blip r:embed="rId1"/>
          <a:stretch/>
        </p:blipFill>
        <p:spPr>
          <a:xfrm>
            <a:off x="5257800" y="1676520"/>
            <a:ext cx="3429000" cy="46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505320" cy="419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457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etting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36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 time and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Papyrus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38080" y="16765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as written in English, it is set in what is now Sweden, where a tribe called the Geats li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62120" y="35053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ory may take place as early as 400 or 500 A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etting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36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Papyrus"/>
              </a:rPr>
              <a:t> time and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beomap"/>
          <p:cNvPicPr/>
          <p:nvPr/>
        </p:nvPicPr>
        <p:blipFill>
          <a:blip r:embed="rId1"/>
          <a:stretch/>
        </p:blipFill>
        <p:spPr>
          <a:xfrm>
            <a:off x="4800600" y="1447920"/>
            <a:ext cx="3773520" cy="4495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europe3"/>
          <p:cNvPicPr/>
          <p:nvPr/>
        </p:nvPicPr>
        <p:blipFill>
          <a:blip r:embed="rId2"/>
          <a:stretch/>
        </p:blipFill>
        <p:spPr>
          <a:xfrm>
            <a:off x="228600" y="1447920"/>
            <a:ext cx="432900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2952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724280" y="6019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ert: Tim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How we date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Important D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38080" y="1905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21 A.D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death of Hygelac, who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ntioned in th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3808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80 A.D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appearance of alliterative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38080" y="36576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35 A.D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the Danish started raiding oth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as; after this, few poets wou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sider them her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04920" y="5486400"/>
            <a:ext cx="8610480" cy="10688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: This version was likely composed between 680 and 835, though it may be set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lliterative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2286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etition of initial sounds of words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occurs in every l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43000" y="3429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Generally, four feet/beats pe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143000" y="4038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A caesura, or pause, between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ts two and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5181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No rh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1905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literative verse – an example from Beowu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762120" y="2971800"/>
            <a:ext cx="7467480" cy="206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ft Scyld Scefin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eapena praetu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negum maegpu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odo-setla oftea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gsode Eorle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ddan aerest we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21337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re was Shield Sheafson, scourge of many trib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wrecker of mead-benches, rampaging among f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terror of the hall-troops had come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1676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Ken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14400" y="2362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Compound metaphor (usually two w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14400" y="3124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Most were probably used over and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8" descr="beocomicboat"/>
          <p:cNvPicPr/>
          <p:nvPr/>
        </p:nvPicPr>
        <p:blipFill>
          <a:blip r:embed="rId1"/>
          <a:stretch/>
        </p:blipFill>
        <p:spPr>
          <a:xfrm>
            <a:off x="990720" y="3733920"/>
            <a:ext cx="3352680" cy="2904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4648320" y="403848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nstance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rona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terally means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le-road,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ut can be translated as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kennings fro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57200" y="21337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nh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ne-house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3520" y="35053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ldwine gume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ld-friend of me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generous pr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" y="47242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57200" y="38098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aga bryt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-giver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57200" y="4419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adoleo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shing ligh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The Poetry in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entaur"/>
              </a:rPr>
              <a:t>Beowul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5120" y="9144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 few things to watch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17524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Li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219320" y="2362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negative expression; usually an under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219320" y="3657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47920" y="426708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Hildeburh had no cause to praise the J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523880" y="49528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447920" y="502920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In this example, Hildeburh</a:t>
            </a:r>
            <a:r>
              <a:rPr b="1" lang="ja-JP" sz="2800" spc="-1" strike="noStrike">
                <a:solidFill>
                  <a:srgbClr val="000000"/>
                </a:solidFill>
                <a:latin typeface="Calligraph421 BT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ligraph421 BT"/>
              </a:rPr>
              <a:t>s brother has just been killed by the Jutes.  This is a poetic way of telling us she hated the Jutes absolu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962520" y="1676520"/>
            <a:ext cx="464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c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09880" y="2590920"/>
            <a:ext cx="5105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ard or story-te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cop was responsible for praising deeds of past heroes, for recording history, and for providing enter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bayeux1"/>
          <p:cNvPicPr/>
          <p:nvPr/>
        </p:nvPicPr>
        <p:blipFill>
          <a:blip r:embed="rId1"/>
          <a:stretch/>
        </p:blipFill>
        <p:spPr>
          <a:xfrm>
            <a:off x="228600" y="182880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Why Study </a:t>
            </a:r>
            <a:r>
              <a:rPr b="1" i="1" lang="en-US" sz="5400" spc="-1" strike="noStrike">
                <a:solidFill>
                  <a:srgbClr val="000000"/>
                </a:solidFill>
                <a:latin typeface="Papyrus"/>
              </a:rPr>
              <a:t>Beowulf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09480" y="1447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oldest poem in the English language, so everything written since Beowulf stems from it in so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09480" y="3429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The story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ncompasses common themes that we still see in English literature to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5800" y="5334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s simply goo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i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9880" y="25909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lly, this means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cor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rade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809880" y="380988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term identifies the concept of warriors and lords mutually pledging their loyalty to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beowarriors"/>
          <p:cNvPicPr/>
          <p:nvPr/>
        </p:nvPicPr>
        <p:blipFill>
          <a:blip r:embed="rId1"/>
          <a:stretch/>
        </p:blipFill>
        <p:spPr>
          <a:xfrm>
            <a:off x="228600" y="1676520"/>
            <a:ext cx="332748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038480" y="2514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733920" y="36576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d-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038480" y="44197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rge hall where the lord and his warriors slept, ate, held ceremoni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bayeux2"/>
          <p:cNvPicPr/>
          <p:nvPr/>
        </p:nvPicPr>
        <p:blipFill>
          <a:blip r:embed="rId1"/>
          <a:stretch/>
        </p:blipFill>
        <p:spPr>
          <a:xfrm>
            <a:off x="228600" y="190512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y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038480" y="2514600"/>
            <a:ext cx="480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e.  This idea crops up a lot in the poem, while at the same time there are Christian references to God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beocmic3"/>
          <p:cNvPicPr/>
          <p:nvPr/>
        </p:nvPicPr>
        <p:blipFill>
          <a:blip r:embed="rId1"/>
          <a:stretch/>
        </p:blipFill>
        <p:spPr>
          <a:xfrm>
            <a:off x="304920" y="1295280"/>
            <a:ext cx="3413160" cy="5311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809880" y="1828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038480" y="2514600"/>
            <a:ext cx="5105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s an epic po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means it has a larger-than life hero and the conflict is of universal importance.  There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a certain serious that accompanies most ep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death02"/>
          <p:cNvPicPr/>
          <p:nvPr/>
        </p:nvPicPr>
        <p:blipFill>
          <a:blip r:embed="rId1"/>
          <a:stretch/>
        </p:blipFill>
        <p:spPr>
          <a:xfrm>
            <a:off x="228600" y="2590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3809880" y="1600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l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038480" y="22860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legy is a poem that is sad or mournful.  The adjectiv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legia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809880" y="3886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038480" y="457200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homily is a written sermon or section of the poem that gives direct advice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beocomic2"/>
          <p:cNvPicPr/>
          <p:nvPr/>
        </p:nvPicPr>
        <p:blipFill>
          <a:blip r:embed="rId1"/>
          <a:stretch/>
        </p:blipFill>
        <p:spPr>
          <a:xfrm>
            <a:off x="304920" y="1600200"/>
            <a:ext cx="3133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Some terms you</a:t>
            </a:r>
            <a:r>
              <a:rPr b="1" lang="ja-JP" sz="4400" spc="-1" strike="noStrike" u="sng">
                <a:solidFill>
                  <a:srgbClr val="000000"/>
                </a:solidFill>
                <a:uFillTx/>
                <a:latin typeface="Centaur"/>
              </a:rPr>
              <a:t>’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ll want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aur"/>
              </a:rPr>
              <a:t>Themes and Important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vs. E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gion: Christian and Pagan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5720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mportance of wealth and tr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yalty and alleg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200" y="2971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mportance of the sea and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57200" y="3581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anctity of the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5720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5720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oism and heroic d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9"/>
          <a:stretch/>
        </p:blipFill>
        <p:spPr>
          <a:xfrm>
            <a:off x="6019920" y="4572000"/>
            <a:ext cx="2476440" cy="140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Why Study </a:t>
            </a:r>
            <a:r>
              <a:rPr b="1" i="1" lang="en-US" sz="5400" spc="-1" strike="noStrike">
                <a:solidFill>
                  <a:srgbClr val="000000"/>
                </a:solidFill>
                <a:latin typeface="Papyrus"/>
              </a:rPr>
              <a:t>Beowulf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62520" y="1600200"/>
            <a:ext cx="4876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n some ways, it does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matter what you read, but how you read it, so…sinc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first, you might as well start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29596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Studying Old English improves your understanding of moder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86200" y="4343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I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a great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294624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57200" y="1905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on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19320" y="2819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rot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057400" y="3581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exactly it w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276720" y="45720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, exactly, is based on historical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057640" y="1523880"/>
            <a:ext cx="4086360" cy="212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15228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352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6765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owulf is the oldest surviving English poem.  It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written in Old English (or Anglo-Saxon), which is the basis for the language we speak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4920" y="37339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of the characters in the poem actually exi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49528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nly copy of the manuscript was written sometime around the 1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A.D. (100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), howeve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7"/>
          <p:cNvSpPr/>
          <p:nvPr/>
        </p:nvSpPr>
        <p:spPr>
          <a:xfrm>
            <a:off x="304920" y="457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ctual poem probably dates from the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(700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) or so, a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04920" y="1905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ory may be set even earlier, around 500 A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80880" y="342900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a lot of Christian references in the poem, but the characters and setting are Pagan…this means a monk probably translat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6400800" y="5435640"/>
            <a:ext cx="2451240" cy="139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1905120" y="16002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why wasn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 it written down in the first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9"/>
          <p:cNvSpPr/>
          <p:nvPr/>
        </p:nvSpPr>
        <p:spPr>
          <a:xfrm>
            <a:off x="304920" y="31240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story was probably passed down orally for centuries before it was first written dow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1"/>
          <p:cNvSpPr/>
          <p:nvPr/>
        </p:nvSpPr>
        <p:spPr>
          <a:xfrm>
            <a:off x="0" y="4419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until after the Norman Invasion (1066) that writing stories down became common in this part of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2070000" cy="160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447920" y="152388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what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 happened to the manuscript since the 1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entu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62520" y="2666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tually, it ended up in the library of this gu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otton"/>
          <p:cNvPicPr/>
          <p:nvPr/>
        </p:nvPicPr>
        <p:blipFill>
          <a:blip r:embed="rId1"/>
          <a:stretch/>
        </p:blipFill>
        <p:spPr>
          <a:xfrm>
            <a:off x="304920" y="2590920"/>
            <a:ext cx="3328920" cy="4016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886200" y="54100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ert Cotton (1571-163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Bent-Up Arrow 10"/>
          <p:cNvSpPr/>
          <p:nvPr/>
        </p:nvSpPr>
        <p:spPr>
          <a:xfrm flipV="1" rot="5400000">
            <a:off x="4914720" y="3542040"/>
            <a:ext cx="1219320" cy="1905120"/>
          </a:xfrm>
          <a:custGeom>
            <a:avLst/>
            <a:gdLst/>
            <a:ahLst/>
            <a:rect l="l" t="t" r="r" b="b"/>
            <a:pathLst>
              <a:path w="1219200" h="1905000">
                <a:moveTo>
                  <a:pt x="0" y="1645920"/>
                </a:moveTo>
                <a:lnTo>
                  <a:pt x="701040" y="1645920"/>
                </a:lnTo>
                <a:lnTo>
                  <a:pt x="701040" y="320040"/>
                </a:lnTo>
                <a:lnTo>
                  <a:pt x="441960" y="320040"/>
                </a:lnTo>
                <a:lnTo>
                  <a:pt x="830580" y="0"/>
                </a:lnTo>
                <a:lnTo>
                  <a:pt x="1219200" y="320040"/>
                </a:lnTo>
                <a:lnTo>
                  <a:pt x="960120" y="320040"/>
                </a:lnTo>
                <a:lnTo>
                  <a:pt x="960120" y="1905000"/>
                </a:lnTo>
                <a:lnTo>
                  <a:pt x="0" y="1905000"/>
                </a:lnTo>
                <a:lnTo>
                  <a:pt x="0" y="164592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762120" y="53352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Beowulf</a:t>
            </a:r>
            <a:r>
              <a:rPr b="1" i="1" lang="ja-JP" sz="5400" spc="-1" strike="noStrike" u="sng">
                <a:solidFill>
                  <a:srgbClr val="000000"/>
                </a:solidFill>
                <a:uFillTx/>
                <a:latin typeface="Papyrus"/>
              </a:rPr>
              <a:t>’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s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Papyrus"/>
              </a:rPr>
              <a:t> Prov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14400" y="1828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fortunately, Cotton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library burned in 1731.  Many manuscripts were entirely destroyed.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owul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as partially dama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90720" y="3733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uscript is now preserved and carefully cared for in the British Muse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23:11:22Z</dcterms:created>
  <dc:creator>Gilmore</dc:creator>
  <dc:description/>
  <dc:language>en-US</dc:language>
  <cp:lastModifiedBy>Sharon Spada</cp:lastModifiedBy>
  <dcterms:modified xsi:type="dcterms:W3CDTF">2015-09-03T14:31:50Z</dcterms:modified>
  <cp:revision>71</cp:revision>
  <dc:subject/>
  <dc:title>PowerPoint Presentation</dc:title>
</cp:coreProperties>
</file>